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EF93-41AF-4662-8C0A-85B4885F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B48A-94E9-4886-89F7-88A93D9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FC91-D641-4EA7-9859-DDFFC027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396D-3218-4541-9FCA-0B1F4859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F401-08BA-41B1-BC39-F44C4359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C318-A8C0-43F5-861B-844EF5E1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448F-6347-4545-AC70-76A3BD0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C3A3-F1DE-470A-B8E5-41B7FC0C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70C3-1EFD-46DE-9A2C-9742823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72C5-1391-4BF4-A540-5A28A9FC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5638-12F3-4592-8699-EC67162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C341-2998-49EC-8A92-4AA691FF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22B-84E4-4B94-86B7-7EF0836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DA68-C489-45A5-B5E1-9C5EABB6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11C3-02A5-4F37-A17D-1B7DBD8C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EC2E-A702-4ECE-9D0C-ECFA9D7A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631D-395B-4304-BD47-B1C6AA61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1C13-6F08-40BD-ACB8-9ED18F32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08FC-D74F-455C-A23C-E62B5A7A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1017-04FD-4709-ACE4-54824989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174D-914D-4826-BA89-8689E05B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69B0-6011-4644-96DD-EAA58D1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8669-50C4-4AFA-A7DD-C42F6A4F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4181-F7A7-4BF4-AEA2-3FFEE76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25E3-4682-4DE3-84E6-0401B349F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5325-CCF7-4C1D-94FC-999E51661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dilată gazele când sunt încălz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face lucru mecanic când încălzim ga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9:10:32Z</dcterms:modified>
  <cp:revision>7</cp:revision>
  <dc:subject/>
  <dc:title>Petrolul mişcă omenirea</dc:title>
</cp:coreProperties>
</file>